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AE6-4BB9-4E5E-AEA7-4792B609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1C8-18A3-43C7-81FE-B661249A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092-B831-4594-8CCD-236F25AA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90F-D73C-4467-88C8-0B96085F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DB3C-8999-4E92-9782-642E5510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10E-0F5B-49BC-B198-B4718566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1AF6-F3A9-4EB7-983F-C8B1B086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3CEC-2FA3-4515-8E97-B027C43B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B3E8-84E4-4575-A06C-A32BAC1A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1CED-776F-4EE5-AFA4-4EBC6AC7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52B-5DDD-4602-ACBD-9D922B7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D75-E9BF-44B5-A779-E25C4981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5F6A-49C7-4D99-BF25-3051C86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F4C8-EEC8-4217-A031-96848A7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4B58-4A29-4AD7-B58A-44B6BFD9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A223-2A62-4543-B952-26785F1B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4D56-BD77-4B3C-9AA7-C798A496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C75-DC3C-4E1A-A247-2EFBAA2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7C4-F64D-4E93-AFA6-07056D06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FE6-AAA3-491F-9DF3-90BB003E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3F2-28A5-4016-B1B8-370752F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398-1581-4E5D-950E-A1AB811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4BC-87DB-4EC5-96A3-A3B2E6D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443-B590-49B6-BC2D-2B8F2FA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9CB5-C1D1-42B1-9F7E-4471C10D3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C330-8A51-41E6-B131-13B05A81B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53452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00"/>
                </a:solidFill>
                <a:latin typeface="Arial Black"/>
              </a:rPr>
              <a:t>¡El español es muy similar al inglés!</a:t>
            </a: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72280" y="2486160"/>
            <a:ext cx="37717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¿Qué significa…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mús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conci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crib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aventu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Un poco más difícil…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 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cl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or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fl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grup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is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¿Comprend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El pala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La meda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Los veget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ntinu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0:56:04Z</dcterms:created>
  <dc:creator>Marjolein Mooney</dc:creator>
  <dc:description/>
  <dc:language>en-US</dc:language>
  <cp:lastModifiedBy>Marjolein Mooney</cp:lastModifiedBy>
  <dcterms:modified xsi:type="dcterms:W3CDTF">2009-09-09T01:13:50Z</dcterms:modified>
  <cp:revision>1</cp:revision>
  <dc:subject/>
  <dc:title>¡El español es muy similar al inglés! </dc:title>
</cp:coreProperties>
</file>